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5.png" ContentType="image/png"/>
  <Override PartName="/ppt/media/image12.gif" ContentType="image/gif"/>
  <Override PartName="/ppt/media/image30.png" ContentType="image/png"/>
  <Override PartName="/ppt/media/image28.png" ContentType="image/png"/>
  <Override PartName="/ppt/media/image3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gif" ContentType="image/gif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278-E5A5-41E5-9715-21E6CE75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E1C-3557-4683-97F7-F0FE1E74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08B-04F4-4582-BC34-2D61924A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7CB-0958-4837-8E70-4D252382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898B-479F-4E42-AFA8-6C491E13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F5EB-4298-4181-A3DE-2EC19510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1428-D6F2-4397-9F7A-BDBA359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C266-51BF-45BE-8265-538E37B9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77E6-E12E-4EA7-B50F-B109A703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6ACE-CE1B-46F7-BE04-84DC9E49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5BF7-4EEE-42EE-90F6-CA0E0C04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6DF-7C72-434E-AA1F-8FD69CBF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5710-2404-4B05-94D8-E1315D07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1EA8-110E-4BF1-B067-B5D6164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CD92-7360-4975-87EF-5BD68E22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3172-4D3C-4896-8415-CA9E5684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0F17-A810-4323-A53B-2D292192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6B6D-2D63-4314-ADBD-EE9D5D3A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F0C1-9165-4DD9-A799-AB408A72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3D50-7436-4293-8BBB-259E7C58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A563-EF79-43CB-B2AB-4CA6A9F7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3AD9-9A67-4504-A941-97A167D7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657-BA6D-4E93-91D0-B8B7314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38B3-0C48-44D6-B438-B32545A2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877FE-3935-43FE-B5F3-48AEB2A0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87CF-63AC-4627-9207-3670C00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BC20-602F-431E-B9E4-2CFEFCF8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C4C6-1859-43A5-B3D5-A44D2744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1F04-A201-4C2A-9FDE-67A205BB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010D-8196-4333-98DD-974E0B7E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D3D4B-CE67-4FBA-9E70-18B8D7E6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53A70-5288-4D62-8F29-A29C3B78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A5AAB-19ED-487F-9794-9DBA58BB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102-23F7-4E07-BF38-6A8B5E53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1F7CD-67E0-4C8F-A4AB-487CEB7D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FD18E-DF92-4EEF-90CC-57F6793D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D400B-1AEE-4045-90DB-B408883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90546-F642-4B92-B68A-34BA3595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B0C5C-0EB5-4E3C-9274-DA6A0015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6EF4E-E80B-4B5F-99D2-921E9CC1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7006-1B48-4C70-AFF0-B2FC5F59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EC417-1D7A-4E25-A5A0-06CA73B0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6FE6-A83C-45B5-83F9-469CFEAA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0042-97FF-41D0-8AA9-C5CE67C7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87F-FDFF-4B67-8465-11B08299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793A7-CDD6-432B-A8C3-CC803BA4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B5157-E594-416A-A791-650DB3A6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8C351-70FC-40FB-851B-2AC97F3A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4FB3D-E0BD-416D-B459-5C660FB2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D3EEC-8D8E-4094-BC54-0B173A11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DD28D-367C-4DA2-9268-25B2DAF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5EF5B-AA4A-4102-B5B6-58F7B0A7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C37F4-D5CB-4B00-BB1F-6AFEC4E6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90063-FA04-42E9-B209-4F461427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2F322-945D-4D1B-875D-3E2574ED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440-25D8-457A-981C-45965414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96405-4F61-4A62-B6C0-D56E0F5A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847-E9C1-4E90-8B66-5E704BA6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EF9-5237-4DAF-A609-C2370D28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FA5-E85B-4988-8927-068850DA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857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aea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cc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1332-D9A6-4E66-BAF7-0EA45D51AA55}" type="slidenum">
              <a:rPr b="0" lang="en-US" sz="1200" spc="-1" strike="noStrike">
                <a:solidFill>
                  <a:srgbClr val="d0cc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9e8e5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9e8e5c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9e8e5c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9e8e5c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9e8e5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9e8e5c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9e8e5c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9e8e5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a09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a09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a09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857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aea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cc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133B-F113-4AB0-95D7-03488B8B4005}" type="slidenum">
              <a:rPr b="0" lang="en-US" sz="1200" spc="-1" strike="noStrike">
                <a:solidFill>
                  <a:srgbClr val="d0cc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9e8e5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9e8e5c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9e8e5c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9e8e5c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9e8e5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9e8e5c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9e8e5c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9e8e5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857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aea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2CE3-4417-4127-AB2E-C114FEE7B9E7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9e8e5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857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aea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cc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B2E8-06B6-4AA5-BE19-2B457D599C8F}" type="slidenum">
              <a:rPr b="0" lang="en-US" sz="1200" spc="-1" strike="noStrike">
                <a:solidFill>
                  <a:srgbClr val="d0cc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9e8e5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857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aea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cc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3CC8-AA4A-47D6-B27E-E0C21F90D86B}" type="slidenum">
              <a:rPr b="0" lang="en-US" sz="1200" spc="-1" strike="noStrike">
                <a:solidFill>
                  <a:srgbClr val="d0cc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npr.org/templates/story/story.php?storyId=15037223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www.marshall.edu/it/copyright/" TargetMode="External"/><Relationship Id="rId3" Type="http://schemas.openxmlformats.org/officeDocument/2006/relationships/hyperlink" Target="mailto:brooks@marshall.edu" TargetMode="External"/><Relationship Id="rId4" Type="http://schemas.openxmlformats.org/officeDocument/2006/relationships/hyperlink" Target="mailto:dcallicoat@marshall.edu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109440" y="1828800"/>
            <a:ext cx="5340240" cy="3402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14520" y="5257440"/>
            <a:ext cx="380520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2011</a:t>
            </a:r>
            <a:endParaRPr b="0" lang="en-US" sz="2000" spc="-1" strike="noStrike">
              <a:solidFill>
                <a:srgbClr val="d0ccb9"/>
              </a:solidFill>
              <a:latin typeface="Tw Cen MT"/>
            </a:endParaRPr>
          </a:p>
          <a:p>
            <a:pPr marL="36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onica Brooks</a:t>
            </a:r>
            <a:endParaRPr b="0" lang="en-US" sz="1800" spc="-1" strike="noStrike">
              <a:solidFill>
                <a:srgbClr val="d0ccb9"/>
              </a:solidFill>
              <a:latin typeface="Tw Cen MT"/>
            </a:endParaRPr>
          </a:p>
          <a:p>
            <a:pPr marL="36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&amp;</a:t>
            </a:r>
            <a:endParaRPr b="0" lang="en-US" sz="1800" spc="-1" strike="noStrike">
              <a:solidFill>
                <a:srgbClr val="d0ccb9"/>
              </a:solidFill>
              <a:latin typeface="Tw Cen MT"/>
            </a:endParaRPr>
          </a:p>
          <a:p>
            <a:pPr marL="36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ena Laton</a:t>
            </a:r>
            <a:endParaRPr b="0" lang="en-US" sz="1800" spc="-1" strike="noStrike">
              <a:solidFill>
                <a:srgbClr val="d0ccb9"/>
              </a:solidFill>
              <a:latin typeface="Tw Cen MT"/>
            </a:endParaRPr>
          </a:p>
          <a:p>
            <a:pPr marL="36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nformation Technology</a:t>
            </a:r>
            <a:endParaRPr b="0" lang="en-US" sz="1800" spc="-1" strike="noStrike">
              <a:solidFill>
                <a:srgbClr val="d0ccb9"/>
              </a:solidFill>
              <a:latin typeface="Tw Cen MT"/>
            </a:endParaRPr>
          </a:p>
        </p:txBody>
      </p:sp>
      <p:pic>
        <p:nvPicPr>
          <p:cNvPr id="392" name="Picture 1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254320" cy="125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286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itle 17 of the US Code was written to protect the </a:t>
            </a:r>
            <a:r>
              <a:rPr b="1" lang="en-US" sz="2900" spc="-1" strike="noStrike">
                <a:solidFill>
                  <a:srgbClr val="ffffff"/>
                </a:solidFill>
                <a:latin typeface="Trebuchet MS"/>
              </a:rPr>
              <a:t>economic rights 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of the copyright owner for </a:t>
            </a:r>
            <a:endParaRPr b="0" lang="en-US" sz="2900" spc="-1" strike="noStrike">
              <a:solidFill>
                <a:srgbClr val="d0ccb9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Reproduction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Distribution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Derivative works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ublic performance and display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he 1998 CONFU additions to the code include a </a:t>
            </a:r>
            <a:r>
              <a:rPr b="1" lang="en-US" sz="2900" spc="-1" strike="noStrike">
                <a:solidFill>
                  <a:srgbClr val="ffffff"/>
                </a:solidFill>
                <a:latin typeface="Trebuchet MS"/>
              </a:rPr>
              <a:t>moral right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 to preserve copyright, and:</a:t>
            </a:r>
            <a:endParaRPr b="0" lang="en-US" sz="2900" spc="-1" strike="noStrike">
              <a:solidFill>
                <a:srgbClr val="d0ccb9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Digital transmission of sound recordings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DMCA provisions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98760"/>
            <a:ext cx="807696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rebuchet MS"/>
              </a:rPr>
              <a:t>CREATED during or after 1978: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Original work: author’s life plus 70 more years from date of author’s death</a:t>
            </a: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Work-for-hire:  95 years from publication &amp; 125 years from creation</a:t>
            </a: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rebuchet MS"/>
              </a:rPr>
              <a:t>PUBLISHED before 1978: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95 years since 1923</a:t>
            </a: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Short-term if no renewal found</a:t>
            </a: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rebuchet MS"/>
              </a:rPr>
              <a:t>CREATED before 1978: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Author’s life plus 70 years (implemented 1/2003)</a:t>
            </a: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3" name="Picture 3" descr="mickeysteamboatwilliemove.gif"/>
          <p:cNvPicPr/>
          <p:nvPr/>
        </p:nvPicPr>
        <p:blipFill>
          <a:blip r:embed="rId2"/>
          <a:stretch/>
        </p:blipFill>
        <p:spPr>
          <a:xfrm>
            <a:off x="6980400" y="304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6974280" y="1598760"/>
            <a:ext cx="14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Steamboat Willie - 1928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684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Title 17, US Code, Section: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107 – Fair use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108 – Library copying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09 – First-sale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10 – Displays/Performances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14 – Transmissions of Sound Recordings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15 – Compulsory License/Recordings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20 – Architectural Works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21 – Persons with Disabilities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560" y="167652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What is the </a:t>
            </a:r>
            <a:r>
              <a:rPr b="1" i="1" lang="en-US" sz="3300" spc="-1" strike="noStrike">
                <a:solidFill>
                  <a:srgbClr val="ffffff"/>
                </a:solidFill>
                <a:latin typeface="Trebuchet MS"/>
              </a:rPr>
              <a:t>PURPOSE</a:t>
            </a: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 of the use? 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What is the </a:t>
            </a:r>
            <a:r>
              <a:rPr b="1" i="1" lang="en-US" sz="3300" spc="-1" strike="noStrike">
                <a:solidFill>
                  <a:srgbClr val="ffffff"/>
                </a:solidFill>
                <a:latin typeface="Trebuchet MS"/>
              </a:rPr>
              <a:t>NATURE</a:t>
            </a: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 of the work to be used? 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What </a:t>
            </a:r>
            <a:r>
              <a:rPr b="1" i="1" lang="en-US" sz="3300" spc="-1" strike="noStrike">
                <a:solidFill>
                  <a:srgbClr val="ffffff"/>
                </a:solidFill>
                <a:latin typeface="Trebuchet MS"/>
              </a:rPr>
              <a:t>AMOUNT</a:t>
            </a: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 of the work will be used? 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What </a:t>
            </a:r>
            <a:r>
              <a:rPr b="1" i="1" lang="en-US" sz="3300" spc="-1" strike="noStrike">
                <a:solidFill>
                  <a:srgbClr val="ffffff"/>
                </a:solidFill>
                <a:latin typeface="Trebuchet MS"/>
              </a:rPr>
              <a:t>EFFECT</a:t>
            </a: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 will your use have on the market for this work?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51920" y="1447560"/>
            <a:ext cx="820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There are very few court cases against professors and librarians because our </a:t>
            </a:r>
            <a:r>
              <a:rPr b="1" i="1" lang="en-US" sz="3100" spc="-1" strike="noStrike">
                <a:solidFill>
                  <a:srgbClr val="ffffff"/>
                </a:solidFill>
                <a:latin typeface="Trebuchet MS"/>
              </a:rPr>
              <a:t>PURPOSE</a:t>
            </a: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 is generally obvious and we are generally acting within the scope of our employment at the university. 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Fair use is meant to be loose &amp; flexible but does not erase our responsibility to apply the factors &amp; keep good records should a challenge be initiated against the university or an individual faculty member.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</p:txBody>
      </p:sp>
      <p:pic>
        <p:nvPicPr>
          <p:cNvPr id="421" name="Picture 5" descr="traffic.gif"/>
          <p:cNvPicPr/>
          <p:nvPr/>
        </p:nvPicPr>
        <p:blipFill>
          <a:blip r:embed="rId2"/>
          <a:stretch/>
        </p:blipFill>
        <p:spPr>
          <a:xfrm rot="614400">
            <a:off x="7493040" y="210600"/>
            <a:ext cx="765000" cy="121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858160" cy="1584360"/>
          </a:xfrm>
          <a:prstGeom prst="rect">
            <a:avLst/>
          </a:prstGeom>
          <a:ln w="0">
            <a:noFill/>
          </a:ln>
        </p:spPr>
      </p:pic>
      <p:sp>
        <p:nvSpPr>
          <p:cNvPr id="423" name="Oval 5"/>
          <p:cNvSpPr/>
          <p:nvPr/>
        </p:nvSpPr>
        <p:spPr>
          <a:xfrm>
            <a:off x="762120" y="1600200"/>
            <a:ext cx="1143000" cy="11430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762120" y="4572000"/>
            <a:ext cx="121896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1981080" y="1676520"/>
            <a:ext cx="62485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Nonprofit, Educational &amp; Personal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riticism &amp; Commentary 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News Reporting &amp; Parody 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Otherwise "transformative" use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ommercial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Oval 6"/>
          <p:cNvSpPr/>
          <p:nvPr/>
        </p:nvSpPr>
        <p:spPr>
          <a:xfrm>
            <a:off x="762120" y="312408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858160" cy="1584360"/>
          </a:xfrm>
          <a:prstGeom prst="rect">
            <a:avLst/>
          </a:prstGeom>
          <a:ln w="0">
            <a:noFill/>
          </a:ln>
        </p:spPr>
      </p:pic>
      <p:sp>
        <p:nvSpPr>
          <p:cNvPr id="428" name="Oval 5"/>
          <p:cNvSpPr/>
          <p:nvPr/>
        </p:nvSpPr>
        <p:spPr>
          <a:xfrm>
            <a:off x="762120" y="1600200"/>
            <a:ext cx="1143000" cy="11430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685800" y="4800600"/>
            <a:ext cx="121932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1981080" y="1600200"/>
            <a:ext cx="62485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Fact or published work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Mixture of fact &amp; imagination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Imaginative or unpublished work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762120" y="327672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12760" y="0"/>
            <a:ext cx="8931240" cy="1584360"/>
          </a:xfrm>
          <a:prstGeom prst="rect">
            <a:avLst/>
          </a:prstGeom>
          <a:ln w="0">
            <a:noFill/>
          </a:ln>
        </p:spPr>
      </p:pic>
      <p:sp>
        <p:nvSpPr>
          <p:cNvPr id="433" name="Oval 4"/>
          <p:cNvSpPr/>
          <p:nvPr/>
        </p:nvSpPr>
        <p:spPr>
          <a:xfrm>
            <a:off x="762120" y="1981080"/>
            <a:ext cx="1143000" cy="11430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Oval 6"/>
          <p:cNvSpPr/>
          <p:nvPr/>
        </p:nvSpPr>
        <p:spPr>
          <a:xfrm>
            <a:off x="685800" y="4648320"/>
            <a:ext cx="121932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905120" y="1600200"/>
            <a:ext cx="685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A little in relation to the whole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Trebuchet MS"/>
              </a:rPr>
              <a:t>when applied to public consump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A lot in relation to the whole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Trebuchet MS"/>
              </a:rPr>
              <a:t>is permissible within MU Online for  your registered students onl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12760" y="0"/>
            <a:ext cx="8931240" cy="1584360"/>
          </a:xfrm>
          <a:prstGeom prst="rect">
            <a:avLst/>
          </a:prstGeom>
          <a:ln w="0">
            <a:noFill/>
          </a:ln>
        </p:spPr>
      </p:pic>
      <p:sp>
        <p:nvSpPr>
          <p:cNvPr id="437" name="Oval 4"/>
          <p:cNvSpPr/>
          <p:nvPr/>
        </p:nvSpPr>
        <p:spPr>
          <a:xfrm>
            <a:off x="762120" y="1447920"/>
            <a:ext cx="1143000" cy="11430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Oval 5"/>
          <p:cNvSpPr/>
          <p:nvPr/>
        </p:nvSpPr>
        <p:spPr>
          <a:xfrm>
            <a:off x="762120" y="312408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Oval 6"/>
          <p:cNvSpPr/>
          <p:nvPr/>
        </p:nvSpPr>
        <p:spPr>
          <a:xfrm>
            <a:off x="762120" y="4876920"/>
            <a:ext cx="121896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1981080" y="1676520"/>
            <a:ext cx="594360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actors 1-3 do not impact marke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Original out of print/unavailabl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No permissions market established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annot find copyright own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akes sales from original work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voids paying royaltie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133200" y="0"/>
            <a:ext cx="9010800" cy="1584360"/>
          </a:xfrm>
          <a:prstGeom prst="rect">
            <a:avLst/>
          </a:prstGeom>
          <a:ln w="0">
            <a:noFill/>
          </a:ln>
        </p:spPr>
      </p:pic>
      <p:sp>
        <p:nvSpPr>
          <p:cNvPr id="442" name="Oval 4"/>
          <p:cNvSpPr/>
          <p:nvPr/>
        </p:nvSpPr>
        <p:spPr>
          <a:xfrm>
            <a:off x="762120" y="1447920"/>
            <a:ext cx="1143000" cy="11430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Oval 5"/>
          <p:cNvSpPr/>
          <p:nvPr/>
        </p:nvSpPr>
        <p:spPr>
          <a:xfrm>
            <a:off x="762120" y="304812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Oval 6"/>
          <p:cNvSpPr/>
          <p:nvPr/>
        </p:nvSpPr>
        <p:spPr>
          <a:xfrm>
            <a:off x="762120" y="4572000"/>
            <a:ext cx="121896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1981080" y="1523880"/>
            <a:ext cx="655344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Decide at last minute to use item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Item is dated/short usable period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Decided to use work in previous term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Plan to discontinue use in near futur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Item becomes course foundatio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6840" y="1523880"/>
            <a:ext cx="79246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TEACH Act expanded our non-profit educational fair use: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lvl="1" marL="536400" indent="-17856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clude conversion of some analog formats to digital for educational us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536400" indent="-17856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so allowed individuals within an institution to be named in copyright litigation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 individual who knowingly and willfully violates copyright may be personally named in a lawsuit and subjected to punitive damages per infringement.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12760" y="444600"/>
            <a:ext cx="8424720" cy="13604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2286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Fair use is more of a balancing test”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– you need to evaluate and apply the four factors and ask yourself if they lean in favor or against your use of the item(s) in question.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Fair use is highly fact sensitive”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– every situation has a different set of facts that impact the meaning and application of fair use.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212760" y="487440"/>
            <a:ext cx="8424720" cy="11761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8284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Don’t reach to hasty conclusions” </a:t>
            </a: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– the question of fair use requires we apply all four factors. Don’t make the assumption you are ok because you are a nonprofit educator. 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If your use is not “fair” don’t forget the other statutory exceptions to the rights of owners” </a:t>
            </a: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– fair use and other exceptions apply independently to one another. You only need to comply with one of them to make your use lawful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365040" y="487440"/>
            <a:ext cx="8425080" cy="11761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228240" y="1904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Trebuchet MS"/>
              </a:rPr>
              <a:t>If your use is not within any of the exceptions, permission from the copyright owner is an important option” –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nless you plan to change how you are using a copyrighted work, you might have no choice but to seek permission. 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Trebuchet MS"/>
              </a:rPr>
              <a:t>Fair use is relevant only if the work is protected by copyright” –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Don’t overlook the chance that the item is in the public domain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212760" y="244440"/>
            <a:ext cx="8474040" cy="12002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Statutory damages can be assessed for copyright infringement; however, educators &amp; librarians typically enjoy some protections in this area.</a:t>
            </a: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If you were acting within the scope of your employment and you 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“believed and had reasonable grounds for believing” 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that the copies you made were fair use, the court may be required to reduce statutory damages to $0.</a:t>
            </a: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You must be able to demonstrate “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reasonable grounds” 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for fair use by providing a reasoned and reasonable conclusion re: whether you are acting within the law.</a:t>
            </a: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Even if the court disagrees with you, they may see that you acted in </a:t>
            </a:r>
            <a:r>
              <a:rPr b="1" i="1" lang="en-US" sz="2300" spc="-1" strike="noStrike">
                <a:solidFill>
                  <a:srgbClr val="ffffff"/>
                </a:solidFill>
                <a:latin typeface="Trebuchet MS"/>
              </a:rPr>
              <a:t>good faith 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and may cut your liabilities accordingly.</a:t>
            </a: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212760" y="244440"/>
            <a:ext cx="8474040" cy="12002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228600" y="1676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Non-profit public higher education faculty, students, &amp; librarians who implement </a:t>
            </a:r>
            <a:r>
              <a:rPr b="0" i="1" lang="en-US" sz="2600" spc="-1" strike="noStrike">
                <a:solidFill>
                  <a:srgbClr val="ffffff"/>
                </a:solidFill>
                <a:latin typeface="Trebuchet MS"/>
              </a:rPr>
              <a:t>fair use in good faith for educational purposes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all under a form of immunity that is usually not subject to punitive damages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aculty must prove they acted in good faith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 paper/email trail is recommended if/when seeking permissions to use copyrighted materials in an online or face-to-face class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 paper/email trail is admissible in court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91960" y="274680"/>
            <a:ext cx="8394840" cy="1359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1522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pyright law changes frequently as cases are decided and precedents are set. 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lways apply fair use logically and keep good records.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sk if you aren’t sure – if we don’t know the answer, we will help you find it!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nce you learn that some practices have changed or become illegal, modify your behavior ASAP!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On October 4, 2007, </a:t>
            </a:r>
            <a:r>
              <a:rPr b="0" i="1" lang="fr-FR" sz="2400" spc="-1" strike="noStrike">
                <a:solidFill>
                  <a:srgbClr val="ffffff"/>
                </a:solidFill>
                <a:latin typeface="Trebuchet MS"/>
              </a:rPr>
              <a:t>Ms. Thomas was found guilty of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rebuchet MS"/>
              </a:rPr>
              <a:t>willfully</a:t>
            </a:r>
            <a:r>
              <a:rPr b="0" i="1" lang="fr-F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downloading music via Kazaa, a file sharing network. A jury in Minnesota handed down $223,000 fine for statutory damages against Ms. Thomas (</a:t>
            </a:r>
            <a:r>
              <a:rPr b="0" lang="fr-FR" sz="2400" spc="-1" strike="noStrike" u="sng">
                <a:solidFill>
                  <a:srgbClr val="b6a272"/>
                </a:solidFill>
                <a:uFillTx/>
                <a:latin typeface="Trebuchet MS"/>
                <a:hlinkClick r:id="rId2"/>
              </a:rPr>
              <a:t>Capital Records, et al v. Jammie Thomas</a:t>
            </a:r>
            <a:r>
              <a:rPr b="0" i="1" lang="fr-FR" sz="2400" spc="-1" strike="noStrike">
                <a:solidFill>
                  <a:srgbClr val="ffffff"/>
                </a:solidFill>
                <a:latin typeface="Trebuchet MS"/>
              </a:rPr>
              <a:t>).  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1717560" y="25560"/>
            <a:ext cx="6969240" cy="6833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 rot="20920200">
            <a:off x="189000" y="3749400"/>
            <a:ext cx="5600520" cy="2476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"/>
          <p:cNvPicPr/>
          <p:nvPr/>
        </p:nvPicPr>
        <p:blipFill>
          <a:blip r:embed="rId3"/>
          <a:stretch/>
        </p:blipFill>
        <p:spPr>
          <a:xfrm>
            <a:off x="304920" y="3541680"/>
            <a:ext cx="1981080" cy="425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"/>
          <p:cNvPicPr/>
          <p:nvPr/>
        </p:nvPicPr>
        <p:blipFill>
          <a:blip r:embed="rId4"/>
          <a:stretch/>
        </p:blipFill>
        <p:spPr>
          <a:xfrm>
            <a:off x="6781680" y="1676520"/>
            <a:ext cx="1714680" cy="914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"/>
          <p:cNvPicPr/>
          <p:nvPr/>
        </p:nvPicPr>
        <p:blipFill>
          <a:blip r:embed="rId5"/>
          <a:stretch/>
        </p:blipFill>
        <p:spPr>
          <a:xfrm>
            <a:off x="6480" y="914400"/>
            <a:ext cx="1627200" cy="121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9080" y="6480"/>
            <a:ext cx="5111640" cy="52862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"/>
          <p:cNvPicPr/>
          <p:nvPr/>
        </p:nvPicPr>
        <p:blipFill>
          <a:blip r:embed="rId2"/>
          <a:stretch/>
        </p:blipFill>
        <p:spPr>
          <a:xfrm>
            <a:off x="4170240" y="2649600"/>
            <a:ext cx="4973760" cy="42084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"/>
          <p:cNvPicPr/>
          <p:nvPr/>
        </p:nvPicPr>
        <p:blipFill>
          <a:blip r:embed="rId3"/>
          <a:stretch/>
        </p:blipFill>
        <p:spPr>
          <a:xfrm>
            <a:off x="2692440" y="985680"/>
            <a:ext cx="2438280" cy="538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4"/>
          <a:stretch/>
        </p:blipFill>
        <p:spPr>
          <a:xfrm>
            <a:off x="398520" y="5900760"/>
            <a:ext cx="377172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" descr=""/>
          <p:cNvPicPr/>
          <p:nvPr/>
        </p:nvPicPr>
        <p:blipFill>
          <a:blip r:embed="rId5"/>
          <a:stretch/>
        </p:blipFill>
        <p:spPr>
          <a:xfrm>
            <a:off x="5943600" y="289080"/>
            <a:ext cx="2857680" cy="193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212760" y="0"/>
            <a:ext cx="8931240" cy="15112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22824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lways evaluate using the 4 fair use factors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se a copyright checklist to manage your written or verbal copyright requests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ave a trail for each item you seek permission/use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Do a self-review regularly– especially when you plan to use an item every semester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se a disclaimer on online or face-to-face syllabi: 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lvl="1" marL="97632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i="1" lang="en-US" sz="2600" spc="-1" strike="noStrike">
                <a:solidFill>
                  <a:srgbClr val="ffffff"/>
                </a:solidFill>
                <a:latin typeface="Trebuchet MS"/>
              </a:rPr>
              <a:t>Some materials used in this class may be copyrighted and should not be shared with individuals not enrolled in this course.”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212760" y="0"/>
            <a:ext cx="8931240" cy="15112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1522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75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Use legal copies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>
              <a:lnSpc>
                <a:spcPct val="100000"/>
              </a:lnSpc>
              <a:spcBef>
                <a:spcPts val="675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Do not circumvent technological protections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>
              <a:lnSpc>
                <a:spcPct val="100000"/>
              </a:lnSpc>
              <a:spcBef>
                <a:spcPts val="675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Use only what is needed (10% rule)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>
              <a:lnSpc>
                <a:spcPct val="100000"/>
              </a:lnSpc>
              <a:spcBef>
                <a:spcPts val="675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heck documentation before posting materials (many items now include “shrink-wrapped” license agreements that supersede fair use)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>
              <a:lnSpc>
                <a:spcPct val="100000"/>
              </a:lnSpc>
              <a:spcBef>
                <a:spcPts val="675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Place all copyrighted material (in any format) within MU Online for face-to-face and online classes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Once you seek permission, fair use applies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Use the item until the owner says stop!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Trebuchet MS"/>
              </a:rPr>
              <a:t>The © police…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rebuchet MS"/>
              </a:rPr>
              <a:t>are</a:t>
            </a: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 watching!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Companies have been created to deliver blanket threats of litigation and/or sue offenders.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Companies use sophisticated automated techniques such as copyright search engines, spiders, &amp; web-bots.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The entertainment industry is fighting to protect its commercial interests.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7711920" cy="13096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  <a:ea typeface="Arial"/>
              </a:rPr>
              <a:t>Online resources: </a:t>
            </a:r>
            <a:r>
              <a:rPr b="0" lang="en-US" sz="3200" spc="-1" strike="noStrike" u="sng">
                <a:solidFill>
                  <a:srgbClr val="b6a272"/>
                </a:solidFill>
                <a:uFillTx/>
                <a:latin typeface="Trebuchet MS"/>
                <a:ea typeface="Arial"/>
                <a:hlinkClick r:id="rId2"/>
              </a:rPr>
              <a:t>http://www.marshall.edu/it/copyright/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endParaRPr b="0" lang="en-US" sz="32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85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  <a:ea typeface="Arial"/>
              </a:rPr>
              <a:t>Includes check-lists, tips, self-help tools, &amp; guides for various types of materials, uses, &amp; questions.</a:t>
            </a:r>
            <a:endParaRPr b="0" lang="en-US" sz="34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  <a:ea typeface="Arial"/>
              </a:rPr>
              <a:t>Campus © Help: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endParaRPr b="0" lang="en-US" sz="32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79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Arial"/>
              </a:rPr>
              <a:t>Monica Brooks or Dena Laton</a:t>
            </a:r>
            <a:endParaRPr b="0" lang="en-US" sz="3200" spc="-1" strike="noStrike">
              <a:solidFill>
                <a:srgbClr val="d0ccb9"/>
              </a:solidFill>
              <a:latin typeface="Tw Cen MT"/>
            </a:endParaRPr>
          </a:p>
          <a:p>
            <a:pPr lvl="1" marL="531000" indent="-17676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Information Technolo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531000" indent="-17676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Drinko Library Admin. (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rebuchet MS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 floor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531000" indent="-17676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6a272"/>
                </a:solidFill>
                <a:uFillTx/>
                <a:latin typeface="Trebuchet MS"/>
                <a:ea typeface="Arial"/>
                <a:hlinkClick r:id="rId3"/>
              </a:rPr>
              <a:t>brooks@marshall.edu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 or </a:t>
            </a:r>
            <a:r>
              <a:rPr b="0" lang="en-US" sz="2800" spc="-1" strike="noStrike" u="sng">
                <a:solidFill>
                  <a:srgbClr val="b6a272"/>
                </a:solidFill>
                <a:uFillTx/>
                <a:latin typeface="Trebuchet MS"/>
                <a:ea typeface="Arial"/>
                <a:hlinkClick r:id="rId4"/>
              </a:rPr>
              <a:t>dcallicoat@marshall.edu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2286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Penalties for infringement can be harsh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The law allows for penalties that range of $750 to $30,000 per infringement, or up to $150,000 if the violation was "willful."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Ignorance of the law is no excuse.  Educators should know how to apply fair use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Providing current policies and regular workshops on campus helps alleviate confusion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rebuchet MS"/>
              </a:rPr>
              <a:t>www.marshall.edu/library/copyright/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pplies © protections and fair use to use of electronic media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rebuchet MS"/>
              </a:rPr>
              <a:t>in education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Expands &amp; clarifies fair use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Increases the types of useable works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Protects copyright owner &amp; media distributor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Attempts to limit institutional liability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Allows temporary copies on pc &amp; for IT to make copies for archives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80520" y="12949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0ccb9"/>
                </a:solidFill>
                <a:latin typeface="Trebuchet MS"/>
              </a:rPr>
              <a:t>MU IT Staff – 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must maintain copy protections, restrict access to registered students and prevent improper use during transmission and/or electronic delivery of copyrighted materials.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0ccb9"/>
                </a:solidFill>
                <a:latin typeface="Trebuchet MS"/>
              </a:rPr>
              <a:t>MU Faculty – 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must use copyrighted materials related to the teaching content and as regular face-to-face or online class sessions and related instructional activities.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With instructor oversight, TEACH allows: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Performances of nondramatic literary &amp; musical works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Performance of any other work, including dramatic works and audiovisual works, but only in “reasonable &amp; limited portions”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Displays of any work “in an amount comparable to that which is typically displayed in the course of a live class session.”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286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EACH does NOT allow: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orks marketed “primarily for performance or display as a part of mediated instructional activities transmitted via digital networks.”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erformances or displays given by means of copies “not lawfully made and acquired.”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tion/sale of print or electronic “Course Packs” designed specifically to avoid the students’ financial burden, circumvent authors’ economic rights or avoid the paying royalties.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Purpose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pyright protects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author of an original work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ligibility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y original work that is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ixed in a tangible medium of expression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protected.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tection is automatic– it is not necessary to register with the US Copyright Office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gistering does yield additional protection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gistration is advised for those who may gain profit from original works (such as inventions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5:20:30Z</dcterms:created>
  <dc:creator>MCSA Authorized User</dc:creator>
  <dc:description/>
  <dc:language>en-US</dc:language>
  <cp:lastModifiedBy>brooks</cp:lastModifiedBy>
  <dcterms:modified xsi:type="dcterms:W3CDTF">2011-11-22T17:24:58Z</dcterms:modified>
  <cp:revision>277</cp:revision>
  <dc:subject/>
  <dc:title>TEACH Act Summary &amp; Best Pract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3481033</vt:lpwstr>
  </property>
</Properties>
</file>